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B32F-4621-4467-A32B-00A57249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964-6409-47DB-9025-A276EB6F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0AB-12F4-4E0E-B441-489FC120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E2A-53F1-4B3D-87D4-55B9396B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42E-0CB7-40DC-A8C4-F917340B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C6A-8796-4444-836A-E72D8335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E68-E3C9-4B69-8C92-2FAE4E04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7D5-682D-4951-9D0F-6BA9B92D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325-244F-4F86-84DE-6F93471C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D78-7BAF-4014-BE71-B2DE958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4C75-AE6C-4AB0-93D0-8EDBDE67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C91-42A8-48F0-99B8-F297770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CFF-E69D-4BAD-A407-608C18525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od and Residue continued…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 are related to the finite: express meanings associated with tense, polarity and moda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eam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obvious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ing     to have to be re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    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mplement 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oo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ed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ff Thompson 2004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ntroducing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don: Hod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.Droga &amp; S Humphries 2002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etting Started with Functional Gramm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SW: Target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l Adjun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hi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od Block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US" sz="32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there are ‘extra items’ between the subject and the finite. E.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ways lying on his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do you categorise ‘alway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extras’ are called Modal Adjunc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mmonl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d adjun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junctive adjuncts (sometimes called ‘discourse markers’) signal how a clause fits in with preceding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junctive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unctuation, on the other hand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roduced faithful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Subject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(adjunct) 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finite </a:t>
            </a:r>
            <a:r>
              <a:rPr b="0" lang="en-GB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predicato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n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o-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-od Block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Residue 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adjuncts typically comment on the clause as a who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 adjunc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this tendency has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endency has, unfortunately,  decl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finite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adjunct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predicator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dju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 o  o   d              b  l  o  c  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</a:rPr>
              <a:t>Resid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1:08:19Z</dcterms:created>
  <dc:creator>clarkuil</dc:creator>
  <dc:description/>
  <dc:language>en-US</dc:language>
  <cp:lastModifiedBy>clarkuil</cp:lastModifiedBy>
  <dcterms:modified xsi:type="dcterms:W3CDTF">2008-04-07T13:38:21Z</dcterms:modified>
  <cp:revision>3</cp:revision>
  <dc:subject/>
  <dc:title>Mood and Residue continued…….</dc:title>
</cp:coreProperties>
</file>